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12.wmf" ContentType="image/x-wmf"/>
  <Override PartName="/ppt/media/image6.wmf" ContentType="image/x-wmf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29A-043C-438A-A37F-BE848CE3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A4C-99FC-49EF-A834-9ED5141F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5DBC3-EB96-490A-BECE-5B30221B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39E77-C881-40F5-B28E-BC81FA16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2823-4B72-489B-B15B-40F3A416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EC267-5C16-4C2F-9F85-9A1164B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E86F8-3809-4E82-BE6F-5A0F4455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44263-EEE6-4C50-95A4-471AFEE7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0DBDF-FC5F-46D2-BB53-BBCB053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2DA31-26D1-4303-BD7D-FB4C412E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80D12-02C3-49F9-9E20-04887AF5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B1570-BB85-4464-B47D-7C156B8C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306-3F4A-44D4-B724-D894B99A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0DBAD-669F-4E77-98B8-1E0B1BDC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CE25E-4158-4E64-A26A-1D69F2D5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BA5BC-A861-4D1C-8DB0-2ED686F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E5719-554A-45C7-BA51-7ABBB08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45810-CEB8-444F-BF29-C8428D20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C6455-92BE-4E39-AB4F-57576E8D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0C8B9-E51E-4E36-B406-DA5B3FE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14540-7BE6-4357-9A42-C6827FC7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36B2-0022-4226-BB8E-360C2C57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275D3-3D2B-404C-A0E3-512F10EB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7E4-F1C3-47D8-9A76-B7EA0491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FBE5B-35A8-44E0-8EC8-A6FD25E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E56C5-641D-4F6F-887F-E851C56A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8D59A-87D4-4DCC-8B66-334FF278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5931-E5B5-4240-8734-F9343B6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A973B-671C-465B-A7DC-9BDF5550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51C48-20A0-45E1-81F8-A1E7D0B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84827-6BD7-4F24-88CC-BE1470F3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02DC-0F28-4D44-B5E2-F53A193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3D66-8772-4B3E-B94A-AF7C5907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581F1-940A-4AC5-88B5-B5CC050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B748-F359-424A-BB2A-AA630F3E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E8026-BE91-4747-BC7C-3B2244E3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628D-BCA3-4DAC-BA91-25995D4D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9366E-9BC8-440E-A6EB-2B1DA481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F6335-7AA1-4B20-B5BF-512CF69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63718-5FA5-4ACC-BF61-5D7B437F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CE642-193A-4CCC-8DF3-D5B4E5A1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8E7D8-F51C-4D36-848B-608592C6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AEDEF-7D77-4EF4-BD09-8C1D9093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39E7D-6F5A-4114-8F82-C33B666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D2214-C97B-41A7-9574-A039A54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42B0-E40F-4F94-977A-64D287DB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C2A0D-542C-447B-A146-E8EA7E08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EAA31-5478-41D4-9536-043A93CB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3C8BC8-3877-4191-B4AD-DD4A930A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980F2-2536-4C70-9433-6D272C3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1E0E1-D998-42E7-B506-F8757013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DDD48-63E6-4B77-A1CD-C8214EFB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017C1-1F65-4E9B-A388-03985D9A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0EAF7-3137-4FD1-ACC2-15E654D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7579B-E66B-4A1B-B133-F5D3D6DD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7635A-0357-40E3-BA54-6212821A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83A3-10D5-4B0C-9DE3-026CB9E0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D45CD-4CEB-443F-BEBF-C89C6096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A2E3B-CE15-4EA7-A3A2-FAA86854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E21D5-8E0C-4627-B9EB-AE5C0D0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3C524-AF14-495A-A7A4-79DDFCD5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2A7BB-B48C-4DE5-9BE4-8F4BC2C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1B98B-1DF1-465F-95A6-1DD21593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2EDA0-5FC0-4288-BAC6-8F1C7C2A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5477-23D0-4815-A7C5-4A3B403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F399-965B-417F-AC4F-D7B42347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8068-3A14-41E5-B69A-1389A0C6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57A9-F5B5-4163-9CD8-7F15D80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7FA-DFC7-4622-A5FC-19D2D37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CDB-26C7-490A-A868-D4443132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34F0-97C7-412B-BB61-C16DEA5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C9C7-62F5-401A-B8DB-BEA22EE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3797-A92F-4744-B4C7-752F730F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844B-3FBF-4BBD-8906-D4E7AC9C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CC0E-F859-46CD-B312-C79EC6A9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6BB4-B142-4565-A58B-026D475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C3E27-69FA-4CEC-9CC8-099432A4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0F154-4089-4F5C-90EA-6F4FF27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5462A-A930-4F6E-8766-5A6EAD21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686-0F37-488F-BB28-03467394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EE0C-7EC1-4ED8-870F-8E8236D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C1A8-E627-446A-AAEA-BDC16D79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A728-85F8-4ECC-8CF6-D9D548EA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FC98-12FA-412C-B33A-29D1265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D0E9-C1A9-4953-BCB4-05022AB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5EA5-AC0D-4287-9E9D-53DAD0AE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EBD09-9E25-4DA9-99DB-580EC36C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CB77D-AF57-4869-A65B-9340A3E6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BF73-B356-491A-BC15-8199AA75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D63C-3594-490E-B361-0EA8886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9A0-DFC3-4CB7-9CD8-850D2A3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7D2D-EFBA-4AE1-BE4E-ED9D8A4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6D04-8944-4C72-A111-41C827A3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D1BFC-7794-44FB-8D06-DDB60B9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CA90-2472-419D-9BE7-E729A49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D1BF-26CF-4D72-9AE0-82D06BB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8B4C5-5C19-4481-AFD9-905F238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F150-8073-4B9D-9B2B-30BF8737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D868-799D-4B05-954E-3958D031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69CE-DB22-4DDD-8FB7-DC0BC3E3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CC76-6DF4-4FDB-91D6-14C4C35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114-5AC0-402E-A3F1-0E2C5815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BFF2A-4710-42EC-A82B-45D08D73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A518-2BAC-450A-BB79-B55A881A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B5E4-AFC2-4699-AABD-4706AA89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76A9-1E34-418A-AEA0-44F85760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A3820-731D-48A6-AC34-389BA55D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C638-5A1C-473C-937F-C633BA5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5A83E-049B-4AC2-B312-EBA0D92E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509A4-67F4-4EC9-942D-30EACD7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2D502-ABF1-444A-9D93-A92C231D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D229-2DF5-41BA-B93A-BB551365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C12-36F6-4768-AEC7-DAFEC198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F3B3-1A86-4FCE-BAE4-EE7D66A1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A059-7C68-4E25-994E-687EC601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5B6B-5079-4BD6-8945-37F09C34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E170-E7BC-4FB3-80A2-0D1EA17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59AE-837C-4933-BA0A-76FC86EC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2CE0-C4B9-4AE9-B433-B961B273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6A1C2-7885-432A-992D-C4AC103B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409E-80C7-4232-9ADD-D80B5C51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9EE11-C1D7-45F9-89B2-95B3B0E2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90B7-84FB-415E-ABA9-1A2A76B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B92-9569-4240-AFFD-422EEAB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BF2CA-FED9-4FF1-BDE6-AAC9AAB6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EEE6A-A0A4-492C-B0A6-A9499FA44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7B914-BCB2-4807-93BA-C56C25D8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B6FBF-595D-413E-B84F-45E81C6F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484F9-756B-4791-8729-D8BF2971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D592-16E8-40ED-821D-3CD21AA9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996B-1768-4D0E-A60E-952EE74D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96F65-2F63-4CEF-A41F-C0409B08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40BB-96F2-4832-9EBA-E34C3CB4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E8C25-2618-4403-807F-5ADC5E09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858-8C42-496D-B88A-7D043C06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EC7A-45B1-4917-A4A1-BEFA34EB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213BA-86D0-475F-9F55-27BD2B46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50AB2-E0B5-4BF9-9EEC-321AC2F8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48AF-3FFF-4C50-903B-BD19FAF8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7DF24-115D-4B01-B77C-3F9C1B8E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55950-A2E5-41FF-A67B-9D0EBB48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A55A-A6B8-4013-A925-2BA19BC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451A5-BF19-403E-8492-106F2BDA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DDD3-9F92-4EF6-9480-19DF4E2E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A415-F8D6-4A8F-A612-7D0EE8A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567-6F74-4223-9618-1CA3856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A5FE9-BF4E-4A3F-A097-D9E5E56D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B169-C72D-480A-8C6E-BB7DD9F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8E00-F859-4D03-9898-1669DBD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3869-DB4F-4666-AE86-AF39A5DC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0381A-DBF5-4F82-A2F0-3A78408F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C8BA-9B4D-41C7-8012-E09A6494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7BD0F-CA61-4B9A-BEC4-DE5D0D66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D93F7-606D-4D7D-887A-439F7DB2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A502B-4C87-49E1-903F-319D16C8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250D9-490F-40E1-9326-2AAC329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1304-FA94-4D07-85A4-ED6E18433C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DD2-B44B-433B-9EBC-D7F471F616D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AF43-B9CE-4294-9970-2541FE76CF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CB4E-0935-4009-AF85-04CE9BCB152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2CB0-871F-4A04-B09A-D8EA6112D9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1D2D-C1DB-441D-B27F-1FFA50CFF0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6F9F-2C1D-4491-8652-D265D55AC5F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7EA-81E6-4AC4-8E05-E9D4E8DF19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F539-D1C3-4CDD-9F97-66D80D2370E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83E-A039-4C58-8A11-6381E03F87D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F00B-2BF5-4BA8-B093-9CB9633903E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B31-7A4E-4152-B990-193C302A82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B84-3FC8-43E6-AF91-88ADAF75AA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jpe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4800" spc="-1" strike="noStrike">
                <a:solidFill>
                  <a:srgbClr val="000000"/>
                </a:solidFill>
                <a:latin typeface="Calibri"/>
              </a:rPr>
              <a:t>Slažemo sile</a:t>
            </a: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Slika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222120" y="618840"/>
            <a:ext cx="867096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 Što je rezultanta, a što su komponente s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je rezultanta sila jednaka zbroju, a kada  razlici iznosa komponen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 Dva dječaka ili dvije djevojčice povlače uže 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protnim krajevima silam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130N i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85N. Kolika je rezultanta tih sila? Kako j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mjerena rezultan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Slika 3" descr="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3" name="Slika 1" descr=""/>
          <p:cNvPicPr/>
          <p:nvPr/>
        </p:nvPicPr>
        <p:blipFill>
          <a:blip r:embed="rId2"/>
          <a:stretch/>
        </p:blipFill>
        <p:spPr>
          <a:xfrm>
            <a:off x="25092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50560" y="907560"/>
            <a:ext cx="8497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jelovanje jednako usmjerenim sil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dva utega na dinamome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m silom uteg mase 100 g djeluje na dinamomet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m će silom uteg mase 200 g djelovati na dinamomet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6000" y="719280"/>
            <a:ext cx="57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m će ukupnom silom djelovati oba uteg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vije ili više jednako usmjerenih sila na tijelo možemo nadomjestiti jednom silom koja je jednaka zbroju tih si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kupnu silu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ezultantna sil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čavamo je s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R,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 sile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i F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 njezine komponente ili sastav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1" name="Slika 1" descr=""/>
          <p:cNvPicPr/>
          <p:nvPr/>
        </p:nvPicPr>
        <p:blipFill>
          <a:blip r:embed="rId5"/>
          <a:stretch/>
        </p:blipFill>
        <p:spPr>
          <a:xfrm>
            <a:off x="5796000" y="1014480"/>
            <a:ext cx="29955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 da 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R = F</a:t>
            </a:r>
            <a:r>
              <a:rPr b="1" i="1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+ F</a:t>
            </a:r>
            <a:r>
              <a:rPr b="1" i="1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duž istog pravca djeluju jednako usmjer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e, iznos rezultantne sile jednak je zbroju njihovih iznosa ,a  usmjerenost rezultante jednaka je usmjerenosti sastavn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Slika 3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rezultanta.jpg"/>
          <p:cNvPicPr/>
          <p:nvPr/>
        </p:nvPicPr>
        <p:blipFill>
          <a:blip r:embed="rId1"/>
          <a:stretch/>
        </p:blipFill>
        <p:spPr>
          <a:xfrm>
            <a:off x="1116000" y="1052640"/>
            <a:ext cx="6727680" cy="53118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rezultanta - isti smjer.jpg"/>
          <p:cNvPicPr/>
          <p:nvPr/>
        </p:nvPicPr>
        <p:blipFill>
          <a:blip r:embed="rId2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  <p:pic>
        <p:nvPicPr>
          <p:cNvPr id="556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jelovanje suprotno usmjerenim sila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sile djeluju kod igre povlačenja uže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ile djeluju duž istoga pravca, ali su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uprotno usmjerene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Slika 3" descr=""/>
          <p:cNvPicPr/>
          <p:nvPr/>
        </p:nvPicPr>
        <p:blipFill>
          <a:blip r:embed="rId8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9" name="Slika 1" descr=""/>
          <p:cNvPicPr/>
          <p:nvPr/>
        </p:nvPicPr>
        <p:blipFill>
          <a:blip r:embed="rId9"/>
          <a:stretch/>
        </p:blipFill>
        <p:spPr>
          <a:xfrm>
            <a:off x="1004760" y="2133720"/>
            <a:ext cx="7128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duž istog pravca djeluju dvi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uprotno usmjerene sile jednakih iznos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rezultantna sila jednak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uli.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da kažemo da su sile u ravnotež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duž istog pravca djeluj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vije suprotno usmjerene sile različitih iznos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iznos rezultantne sile je jednak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razlici njihovih iznos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R = F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 – F</a:t>
            </a:r>
            <a:r>
              <a:rPr b="1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Content Placeholder 3" descr="rezultanta - suprotne.jpg"/>
          <p:cNvPicPr/>
          <p:nvPr/>
        </p:nvPicPr>
        <p:blipFill>
          <a:blip r:embed="rId1"/>
          <a:stretch/>
        </p:blipFill>
        <p:spPr>
          <a:xfrm>
            <a:off x="3605040" y="1600200"/>
            <a:ext cx="4999320" cy="452592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2"/>
          <a:stretch/>
        </p:blipFill>
        <p:spPr>
          <a:xfrm>
            <a:off x="755640" y="4508640"/>
            <a:ext cx="2514600" cy="69516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6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r: Sila kojom motor vuče automobil iznosi 1200 N, na vodoravnom dijelu ceste. Kolika će biti rezultantna sila, ak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) vjetar na automobil djeluje silom iznosa 600 N suprotno smjeru vož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) vjetar djeluje silom iznosa 400 N u smjeru vožnje automob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Slika 3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7:35:44Z</dcterms:created>
  <dc:creator>Mladen Vidović</dc:creator>
  <dc:description/>
  <dc:language>en-US</dc:language>
  <cp:lastModifiedBy>MArina Dumančić</cp:lastModifiedBy>
  <dcterms:modified xsi:type="dcterms:W3CDTF">2019-09-14T13:30:24Z</dcterms:modified>
  <cp:revision>26</cp:revision>
  <dc:subject/>
  <dc:title>Slažemo sile</dc:title>
</cp:coreProperties>
</file>